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84E-026E-4786-A8A4-F1281A69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E6D-BCE9-4A4B-B730-EB1B641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95E-54FA-44E8-BCD9-5F4E9903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E25-8A89-448D-BE2B-BF40F301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7420-9ECB-4EA3-A81D-67AEF42F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00A5-5FE2-4534-947B-54F018B7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C04-1B57-4E46-9861-011621D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1A54-A5F7-44A4-88B3-3EB53489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C1B6-B8A9-4DF8-A34B-FDF64654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D5CA-7C54-4E1E-B91C-FCE9DC7C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AF80-E00A-4888-A02A-F6E5F7B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8F2-BEFA-4BDC-B422-99388AEE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D118-FE28-4168-8370-525EFDC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8882-84F8-436F-82F8-A1B8A7E5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062C-57E1-4F94-9809-3992495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D99-B518-408F-BC3B-E7776BE2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3A6-B63C-497C-A948-BE4C013B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5380-3EAF-40D4-92C5-6085DF80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198C-DCF2-413C-B288-CF7301C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3B20-9D23-41CA-B0C7-882DD9F3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B2A2-EEA7-4A1C-88CE-5BBAAA61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26A9-F4E5-4C33-9503-6138B0B1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BF0-00CD-4EC2-BEAF-6B11C56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CACB-AD7A-4081-A093-ECE54324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65F2-8217-47B5-BB2E-29D4A3E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0FE5-962E-4D8E-87AD-95EFF77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5748-A7AD-429B-AC82-7950CA7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4BA8-123A-42D2-99C7-F89940E4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44C9-6E32-411B-9E34-AA05A2FB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43BF-D011-40DF-AF51-DE34F518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0D72-B435-43AD-9708-93478D3E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EAE5F-4212-4EFF-8E2A-D060D589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2187-5B54-4255-8ADA-62248831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DF1-F71A-4E7E-BC37-1C721AD7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FC61-CE05-4945-9C64-E5292FE3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D9EB-53BD-4B87-BA98-E004C43E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0314-6FD2-4BA0-A8B1-C99BD79A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AEB5-A857-4896-B0EB-48CD492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A473-3C44-46F6-97CA-19D3A546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6AC3-A2C2-4C46-8D50-759237A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D6F7-A620-4AD5-AC61-23ED4966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1402-9345-4CAD-ABB9-186CC7D7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DCC15-AA96-4A92-A3F9-D801C11B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5EA37-6D2F-4DC5-A8E7-38419D8B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899-A98F-41C6-BFFC-1E1C7D69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DAA0B-C906-44CE-9130-D04249E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9181-7C27-4B3B-B877-4630D049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95D76-F793-4266-A768-D3152C72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638F-419A-4081-92E8-3550251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139F-7613-4DFD-B982-0B6A6C6B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6937-A782-43B5-9FF5-FF3DD88B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8B578-8655-4532-89B2-C1967781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936A-01F1-4B13-95F3-C0E4B6B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2574B-6689-4161-AA85-3CABCD83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8197-7A5B-4C10-881A-00F346F8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C49-2458-4E32-8DC9-A3CFA40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BD9AF-2385-4268-AE2F-06BF99CB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102-86CF-4E73-B7FA-5C5E4B4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DD7-B4FA-4BEB-A6E7-7E14B9A0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007-E9EE-4C07-9B6F-55326889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2AA1-9AA9-41CC-8C34-D40F73648CC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9881-75D0-46BD-8AD8-FF2E1C8A2A3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3CC-49AD-4D3F-A043-C2F992EFF04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BFD0-73EA-49F7-850C-C9D6D56276D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12E-6D6F-42FF-8BC3-7509072928D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НУКЛЕИНСКЕ КИСЕЛИНЕ</a:t>
            </a:r>
            <a:br>
              <a:rPr sz="4400"/>
            </a:b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- СТРУКТУРА И ФУНКЦИЈ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92096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а носи информацију за синтезу функционалног продукт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што се целом дужином хромозома просторе ДНК, значи да су гени распоређени дуж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4648320" y="2133720"/>
          <a:ext cx="41907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1907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Структура ген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51920" y="198072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зависи од распореда и редоследа 4 типа нуклеотида (А тип, G тип, C тип, Т тип нуклеоти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5334120" y="1447920"/>
          <a:ext cx="34653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3465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7720" y="990720"/>
            <a:ext cx="754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за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онтнуирана грађ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тернирају егзони и интр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нт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не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гз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600200" y="4191120"/>
            <a:ext cx="5943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2"/>
          <p:cNvSpPr/>
          <p:nvPr/>
        </p:nvSpPr>
        <p:spPr>
          <a:xfrm>
            <a:off x="1143000" y="1447920"/>
            <a:ext cx="4038480" cy="365760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3657600"/>
              <a:gd name="textAreaBottom" fmla="*/ 3657600 h 3657600"/>
            </a:gdLst>
            <a:ahLst/>
            <a:rect l="textAreaLeft" t="textAreaTop" r="textAreaRight" b="textAreaBottom"/>
            <a:pathLst>
              <a:path w="2080" h="2200">
                <a:moveTo>
                  <a:pt x="8" y="1232"/>
                </a:moveTo>
                <a:cubicBezTo>
                  <a:pt x="0" y="992"/>
                  <a:pt x="40" y="680"/>
                  <a:pt x="104" y="512"/>
                </a:cubicBezTo>
                <a:cubicBezTo>
                  <a:pt x="168" y="344"/>
                  <a:pt x="248" y="296"/>
                  <a:pt x="392" y="224"/>
                </a:cubicBezTo>
                <a:cubicBezTo>
                  <a:pt x="536" y="152"/>
                  <a:pt x="784" y="96"/>
                  <a:pt x="968" y="80"/>
                </a:cubicBezTo>
                <a:cubicBezTo>
                  <a:pt x="1152" y="64"/>
                  <a:pt x="1320" y="0"/>
                  <a:pt x="1496" y="128"/>
                </a:cubicBezTo>
                <a:cubicBezTo>
                  <a:pt x="1672" y="256"/>
                  <a:pt x="1968" y="568"/>
                  <a:pt x="2024" y="848"/>
                </a:cubicBezTo>
                <a:cubicBezTo>
                  <a:pt x="2080" y="1128"/>
                  <a:pt x="1920" y="1592"/>
                  <a:pt x="1832" y="1808"/>
                </a:cubicBezTo>
                <a:cubicBezTo>
                  <a:pt x="1744" y="2024"/>
                  <a:pt x="1672" y="2088"/>
                  <a:pt x="1496" y="2144"/>
                </a:cubicBezTo>
                <a:cubicBezTo>
                  <a:pt x="1320" y="2200"/>
                  <a:pt x="1000" y="2176"/>
                  <a:pt x="776" y="2144"/>
                </a:cubicBezTo>
                <a:cubicBezTo>
                  <a:pt x="552" y="2112"/>
                  <a:pt x="288" y="2112"/>
                  <a:pt x="152" y="1952"/>
                </a:cubicBezTo>
                <a:cubicBezTo>
                  <a:pt x="16" y="1792"/>
                  <a:pt x="16" y="1472"/>
                  <a:pt x="8" y="1232"/>
                </a:cubicBezTo>
                <a:close/>
              </a:path>
            </a:pathLst>
          </a:custGeom>
          <a:noFill/>
          <a:ln w="57240">
            <a:solidFill>
              <a:srgbClr val="ed6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5435640" y="1295280"/>
            <a:ext cx="507960" cy="825120"/>
            <a:chOff x="5435640" y="1295280"/>
            <a:chExt cx="507960" cy="825120"/>
          </a:xfrm>
        </p:grpSpPr>
        <p:sp>
          <p:nvSpPr>
            <p:cNvPr id="248" name="Freeform 4"/>
            <p:cNvSpPr/>
            <p:nvPr/>
          </p:nvSpPr>
          <p:spPr>
            <a:xfrm>
              <a:off x="5538960" y="1303200"/>
              <a:ext cx="176040" cy="284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72" h="568">
                  <a:moveTo>
                    <a:pt x="256" y="504"/>
                  </a:moveTo>
                  <a:cubicBezTo>
                    <a:pt x="272" y="440"/>
                    <a:pt x="248" y="144"/>
                    <a:pt x="208" y="72"/>
                  </a:cubicBezTo>
                  <a:cubicBezTo>
                    <a:pt x="168" y="0"/>
                    <a:pt x="32" y="8"/>
                    <a:pt x="16" y="72"/>
                  </a:cubicBezTo>
                  <a:cubicBezTo>
                    <a:pt x="0" y="136"/>
                    <a:pt x="80" y="376"/>
                    <a:pt x="112" y="456"/>
                  </a:cubicBezTo>
                  <a:cubicBezTo>
                    <a:pt x="144" y="536"/>
                    <a:pt x="240" y="568"/>
                    <a:pt x="256" y="50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5704920" y="1295280"/>
              <a:ext cx="171000" cy="316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64" h="632">
                  <a:moveTo>
                    <a:pt x="0" y="568"/>
                  </a:moveTo>
                  <a:cubicBezTo>
                    <a:pt x="0" y="504"/>
                    <a:pt x="56" y="176"/>
                    <a:pt x="96" y="88"/>
                  </a:cubicBezTo>
                  <a:cubicBezTo>
                    <a:pt x="136" y="0"/>
                    <a:pt x="216" y="8"/>
                    <a:pt x="240" y="40"/>
                  </a:cubicBezTo>
                  <a:cubicBezTo>
                    <a:pt x="264" y="72"/>
                    <a:pt x="264" y="208"/>
                    <a:pt x="240" y="280"/>
                  </a:cubicBezTo>
                  <a:cubicBezTo>
                    <a:pt x="216" y="352"/>
                    <a:pt x="144" y="416"/>
                    <a:pt x="96" y="472"/>
                  </a:cubicBezTo>
                  <a:cubicBezTo>
                    <a:pt x="48" y="528"/>
                    <a:pt x="0" y="632"/>
                    <a:pt x="0" y="56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5435640" y="1567800"/>
              <a:ext cx="279720" cy="54900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432" h="1096">
                  <a:moveTo>
                    <a:pt x="416" y="24"/>
                  </a:moveTo>
                  <a:cubicBezTo>
                    <a:pt x="400" y="0"/>
                    <a:pt x="288" y="80"/>
                    <a:pt x="224" y="168"/>
                  </a:cubicBezTo>
                  <a:cubicBezTo>
                    <a:pt x="160" y="256"/>
                    <a:pt x="64" y="416"/>
                    <a:pt x="32" y="552"/>
                  </a:cubicBezTo>
                  <a:cubicBezTo>
                    <a:pt x="0" y="688"/>
                    <a:pt x="8" y="904"/>
                    <a:pt x="32" y="984"/>
                  </a:cubicBezTo>
                  <a:cubicBezTo>
                    <a:pt x="56" y="1064"/>
                    <a:pt x="128" y="1096"/>
                    <a:pt x="176" y="1032"/>
                  </a:cubicBezTo>
                  <a:cubicBezTo>
                    <a:pt x="224" y="968"/>
                    <a:pt x="296" y="720"/>
                    <a:pt x="320" y="600"/>
                  </a:cubicBezTo>
                  <a:cubicBezTo>
                    <a:pt x="344" y="480"/>
                    <a:pt x="304" y="408"/>
                    <a:pt x="320" y="312"/>
                  </a:cubicBezTo>
                  <a:cubicBezTo>
                    <a:pt x="336" y="216"/>
                    <a:pt x="432" y="48"/>
                    <a:pt x="416" y="2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699880" y="1555560"/>
              <a:ext cx="243720" cy="5648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76" h="1128">
                  <a:moveTo>
                    <a:pt x="8" y="48"/>
                  </a:moveTo>
                  <a:cubicBezTo>
                    <a:pt x="16" y="0"/>
                    <a:pt x="112" y="96"/>
                    <a:pt x="152" y="144"/>
                  </a:cubicBezTo>
                  <a:cubicBezTo>
                    <a:pt x="192" y="192"/>
                    <a:pt x="216" y="256"/>
                    <a:pt x="248" y="336"/>
                  </a:cubicBezTo>
                  <a:cubicBezTo>
                    <a:pt x="280" y="416"/>
                    <a:pt x="328" y="504"/>
                    <a:pt x="344" y="624"/>
                  </a:cubicBezTo>
                  <a:cubicBezTo>
                    <a:pt x="360" y="744"/>
                    <a:pt x="376" y="984"/>
                    <a:pt x="344" y="1056"/>
                  </a:cubicBezTo>
                  <a:cubicBezTo>
                    <a:pt x="312" y="1128"/>
                    <a:pt x="184" y="1096"/>
                    <a:pt x="152" y="1056"/>
                  </a:cubicBezTo>
                  <a:cubicBezTo>
                    <a:pt x="120" y="1016"/>
                    <a:pt x="160" y="920"/>
                    <a:pt x="152" y="816"/>
                  </a:cubicBezTo>
                  <a:cubicBezTo>
                    <a:pt x="144" y="712"/>
                    <a:pt x="120" y="560"/>
                    <a:pt x="104" y="432"/>
                  </a:cubicBezTo>
                  <a:cubicBezTo>
                    <a:pt x="88" y="304"/>
                    <a:pt x="0" y="96"/>
                    <a:pt x="8" y="4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5715000" y="1981080"/>
            <a:ext cx="596520" cy="583920"/>
            <a:chOff x="5715000" y="1981080"/>
            <a:chExt cx="596520" cy="583920"/>
          </a:xfrm>
        </p:grpSpPr>
        <p:sp>
          <p:nvSpPr>
            <p:cNvPr id="253" name="Freeform 9"/>
            <p:cNvSpPr/>
            <p:nvPr/>
          </p:nvSpPr>
          <p:spPr>
            <a:xfrm>
              <a:off x="5960520" y="1981080"/>
              <a:ext cx="122760" cy="2991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12" h="336">
                  <a:moveTo>
                    <a:pt x="56" y="320"/>
                  </a:moveTo>
                  <a:cubicBezTo>
                    <a:pt x="72" y="336"/>
                    <a:pt x="112" y="176"/>
                    <a:pt x="104" y="128"/>
                  </a:cubicBezTo>
                  <a:cubicBezTo>
                    <a:pt x="96" y="80"/>
                    <a:pt x="16" y="0"/>
                    <a:pt x="8" y="32"/>
                  </a:cubicBezTo>
                  <a:cubicBezTo>
                    <a:pt x="0" y="64"/>
                    <a:pt x="40" y="304"/>
                    <a:pt x="56" y="32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057000" y="1981080"/>
              <a:ext cx="245520" cy="2494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24" h="280">
                  <a:moveTo>
                    <a:pt x="16" y="272"/>
                  </a:moveTo>
                  <a:cubicBezTo>
                    <a:pt x="32" y="280"/>
                    <a:pt x="192" y="120"/>
                    <a:pt x="208" y="80"/>
                  </a:cubicBezTo>
                  <a:cubicBezTo>
                    <a:pt x="224" y="40"/>
                    <a:pt x="144" y="0"/>
                    <a:pt x="112" y="32"/>
                  </a:cubicBezTo>
                  <a:cubicBezTo>
                    <a:pt x="80" y="64"/>
                    <a:pt x="0" y="264"/>
                    <a:pt x="16" y="27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5715000" y="2216160"/>
              <a:ext cx="403560" cy="2847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368" h="320">
                  <a:moveTo>
                    <a:pt x="328" y="8"/>
                  </a:moveTo>
                  <a:cubicBezTo>
                    <a:pt x="368" y="0"/>
                    <a:pt x="312" y="104"/>
                    <a:pt x="280" y="152"/>
                  </a:cubicBezTo>
                  <a:cubicBezTo>
                    <a:pt x="248" y="200"/>
                    <a:pt x="176" y="272"/>
                    <a:pt x="136" y="296"/>
                  </a:cubicBezTo>
                  <a:cubicBezTo>
                    <a:pt x="96" y="320"/>
                    <a:pt x="56" y="312"/>
                    <a:pt x="40" y="296"/>
                  </a:cubicBezTo>
                  <a:cubicBezTo>
                    <a:pt x="24" y="280"/>
                    <a:pt x="0" y="248"/>
                    <a:pt x="40" y="200"/>
                  </a:cubicBezTo>
                  <a:cubicBezTo>
                    <a:pt x="80" y="152"/>
                    <a:pt x="288" y="16"/>
                    <a:pt x="32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057000" y="2223000"/>
              <a:ext cx="254520" cy="3420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32" h="384">
                  <a:moveTo>
                    <a:pt x="16" y="0"/>
                  </a:moveTo>
                  <a:cubicBezTo>
                    <a:pt x="0" y="0"/>
                    <a:pt x="80" y="128"/>
                    <a:pt x="112" y="192"/>
                  </a:cubicBezTo>
                  <a:cubicBezTo>
                    <a:pt x="144" y="256"/>
                    <a:pt x="192" y="384"/>
                    <a:pt x="208" y="384"/>
                  </a:cubicBezTo>
                  <a:cubicBezTo>
                    <a:pt x="224" y="384"/>
                    <a:pt x="232" y="248"/>
                    <a:pt x="208" y="192"/>
                  </a:cubicBezTo>
                  <a:cubicBezTo>
                    <a:pt x="184" y="136"/>
                    <a:pt x="32" y="0"/>
                    <a:pt x="16" y="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2947320" y="4233960"/>
            <a:ext cx="1128600" cy="649800"/>
            <a:chOff x="2947320" y="4233960"/>
            <a:chExt cx="1128600" cy="649800"/>
          </a:xfrm>
        </p:grpSpPr>
        <p:sp>
          <p:nvSpPr>
            <p:cNvPr id="258" name="Freeform 14"/>
            <p:cNvSpPr/>
            <p:nvPr/>
          </p:nvSpPr>
          <p:spPr>
            <a:xfrm rot="20511600">
              <a:off x="2971800" y="4393800"/>
              <a:ext cx="1079640" cy="3301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 rot="20511600">
              <a:off x="3163680" y="442440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 rot="20511600">
              <a:off x="3005640" y="455400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1415160" y="3430080"/>
            <a:ext cx="851760" cy="1090440"/>
            <a:chOff x="1415160" y="3430080"/>
            <a:chExt cx="851760" cy="1090440"/>
          </a:xfrm>
        </p:grpSpPr>
        <p:sp>
          <p:nvSpPr>
            <p:cNvPr id="262" name="Freeform 18"/>
            <p:cNvSpPr/>
            <p:nvPr/>
          </p:nvSpPr>
          <p:spPr>
            <a:xfrm rot="3480600">
              <a:off x="1301400" y="3809880"/>
              <a:ext cx="1079280" cy="3301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 rot="3480600">
              <a:off x="1442520" y="392328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 rot="3480600">
              <a:off x="1560240" y="353772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6095880" y="1371600"/>
            <a:ext cx="330480" cy="368280"/>
            <a:chOff x="6095880" y="1371600"/>
            <a:chExt cx="330480" cy="368280"/>
          </a:xfrm>
        </p:grpSpPr>
        <p:sp>
          <p:nvSpPr>
            <p:cNvPr id="266" name="Freeform 22"/>
            <p:cNvSpPr/>
            <p:nvPr/>
          </p:nvSpPr>
          <p:spPr>
            <a:xfrm>
              <a:off x="6095880" y="1387800"/>
              <a:ext cx="165240" cy="35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6197040" y="1371600"/>
              <a:ext cx="229320" cy="36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8" name="Group 24"/>
          <p:cNvGrpSpPr/>
          <p:nvPr/>
        </p:nvGrpSpPr>
        <p:grpSpPr>
          <a:xfrm>
            <a:off x="1925280" y="1786320"/>
            <a:ext cx="2237400" cy="1843920"/>
            <a:chOff x="1925280" y="1786320"/>
            <a:chExt cx="2237400" cy="1843920"/>
          </a:xfrm>
        </p:grpSpPr>
        <p:sp>
          <p:nvSpPr>
            <p:cNvPr id="269" name="Freeform 25"/>
            <p:cNvSpPr/>
            <p:nvPr/>
          </p:nvSpPr>
          <p:spPr>
            <a:xfrm rot="21203400">
              <a:off x="1994760" y="2039760"/>
              <a:ext cx="632880" cy="124416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368" h="800">
                  <a:moveTo>
                    <a:pt x="80" y="688"/>
                  </a:moveTo>
                  <a:cubicBezTo>
                    <a:pt x="56" y="664"/>
                    <a:pt x="40" y="656"/>
                    <a:pt x="32" y="592"/>
                  </a:cubicBezTo>
                  <a:cubicBezTo>
                    <a:pt x="24" y="528"/>
                    <a:pt x="0" y="392"/>
                    <a:pt x="32" y="304"/>
                  </a:cubicBezTo>
                  <a:cubicBezTo>
                    <a:pt x="64" y="216"/>
                    <a:pt x="168" y="112"/>
                    <a:pt x="224" y="64"/>
                  </a:cubicBezTo>
                  <a:cubicBezTo>
                    <a:pt x="280" y="16"/>
                    <a:pt x="368" y="0"/>
                    <a:pt x="368" y="16"/>
                  </a:cubicBezTo>
                  <a:cubicBezTo>
                    <a:pt x="368" y="32"/>
                    <a:pt x="272" y="104"/>
                    <a:pt x="224" y="160"/>
                  </a:cubicBezTo>
                  <a:cubicBezTo>
                    <a:pt x="176" y="216"/>
                    <a:pt x="88" y="256"/>
                    <a:pt x="80" y="352"/>
                  </a:cubicBezTo>
                  <a:cubicBezTo>
                    <a:pt x="72" y="448"/>
                    <a:pt x="176" y="672"/>
                    <a:pt x="176" y="736"/>
                  </a:cubicBezTo>
                  <a:cubicBezTo>
                    <a:pt x="176" y="800"/>
                    <a:pt x="104" y="712"/>
                    <a:pt x="80" y="68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 rot="21203400">
              <a:off x="2913480" y="1841400"/>
              <a:ext cx="1004400" cy="7711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584" h="496">
                  <a:moveTo>
                    <a:pt x="0" y="64"/>
                  </a:moveTo>
                  <a:cubicBezTo>
                    <a:pt x="0" y="48"/>
                    <a:pt x="128" y="0"/>
                    <a:pt x="192" y="16"/>
                  </a:cubicBezTo>
                  <a:cubicBezTo>
                    <a:pt x="256" y="32"/>
                    <a:pt x="320" y="88"/>
                    <a:pt x="384" y="160"/>
                  </a:cubicBezTo>
                  <a:cubicBezTo>
                    <a:pt x="448" y="232"/>
                    <a:pt x="568" y="400"/>
                    <a:pt x="576" y="448"/>
                  </a:cubicBezTo>
                  <a:cubicBezTo>
                    <a:pt x="584" y="496"/>
                    <a:pt x="472" y="488"/>
                    <a:pt x="432" y="448"/>
                  </a:cubicBezTo>
                  <a:cubicBezTo>
                    <a:pt x="392" y="408"/>
                    <a:pt x="376" y="264"/>
                    <a:pt x="336" y="208"/>
                  </a:cubicBezTo>
                  <a:cubicBezTo>
                    <a:pt x="296" y="152"/>
                    <a:pt x="256" y="144"/>
                    <a:pt x="192" y="112"/>
                  </a:cubicBezTo>
                  <a:cubicBezTo>
                    <a:pt x="128" y="80"/>
                    <a:pt x="0" y="80"/>
                    <a:pt x="0" y="64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 rot="21203400">
              <a:off x="2451960" y="3177000"/>
              <a:ext cx="1032120" cy="394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00" h="256">
                  <a:moveTo>
                    <a:pt x="104" y="8"/>
                  </a:moveTo>
                  <a:cubicBezTo>
                    <a:pt x="72" y="0"/>
                    <a:pt x="0" y="72"/>
                    <a:pt x="8" y="104"/>
                  </a:cubicBezTo>
                  <a:cubicBezTo>
                    <a:pt x="16" y="136"/>
                    <a:pt x="64" y="176"/>
                    <a:pt x="152" y="200"/>
                  </a:cubicBezTo>
                  <a:cubicBezTo>
                    <a:pt x="240" y="224"/>
                    <a:pt x="472" y="256"/>
                    <a:pt x="536" y="248"/>
                  </a:cubicBezTo>
                  <a:cubicBezTo>
                    <a:pt x="600" y="240"/>
                    <a:pt x="592" y="168"/>
                    <a:pt x="536" y="152"/>
                  </a:cubicBezTo>
                  <a:cubicBezTo>
                    <a:pt x="480" y="136"/>
                    <a:pt x="280" y="176"/>
                    <a:pt x="200" y="152"/>
                  </a:cubicBezTo>
                  <a:cubicBezTo>
                    <a:pt x="120" y="128"/>
                    <a:pt x="136" y="16"/>
                    <a:pt x="104" y="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 rot="21203400">
              <a:off x="3523320" y="2544480"/>
              <a:ext cx="591480" cy="858240"/>
            </a:xfrm>
            <a:custGeom>
              <a:avLst/>
              <a:gdLst>
                <a:gd name="textAreaLeft" fmla="*/ 0 w 591480"/>
                <a:gd name="textAreaRight" fmla="*/ 591480 w 591480"/>
                <a:gd name="textAreaTop" fmla="*/ 0 h 858240"/>
                <a:gd name="textAreaBottom" fmla="*/ 858600 h 858240"/>
              </a:gdLst>
              <a:ahLst/>
              <a:rect l="textAreaLeft" t="textAreaTop" r="textAreaRight" b="textAreaBottom"/>
              <a:pathLst>
                <a:path w="344" h="552">
                  <a:moveTo>
                    <a:pt x="224" y="112"/>
                  </a:moveTo>
                  <a:cubicBezTo>
                    <a:pt x="208" y="160"/>
                    <a:pt x="256" y="248"/>
                    <a:pt x="224" y="304"/>
                  </a:cubicBezTo>
                  <a:cubicBezTo>
                    <a:pt x="192" y="360"/>
                    <a:pt x="64" y="408"/>
                    <a:pt x="32" y="448"/>
                  </a:cubicBezTo>
                  <a:cubicBezTo>
                    <a:pt x="0" y="488"/>
                    <a:pt x="8" y="536"/>
                    <a:pt x="32" y="544"/>
                  </a:cubicBezTo>
                  <a:cubicBezTo>
                    <a:pt x="56" y="552"/>
                    <a:pt x="128" y="544"/>
                    <a:pt x="176" y="496"/>
                  </a:cubicBezTo>
                  <a:cubicBezTo>
                    <a:pt x="224" y="448"/>
                    <a:pt x="296" y="336"/>
                    <a:pt x="320" y="256"/>
                  </a:cubicBezTo>
                  <a:cubicBezTo>
                    <a:pt x="344" y="176"/>
                    <a:pt x="328" y="32"/>
                    <a:pt x="320" y="16"/>
                  </a:cubicBezTo>
                  <a:cubicBezTo>
                    <a:pt x="312" y="0"/>
                    <a:pt x="240" y="64"/>
                    <a:pt x="224" y="112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3" name="Group 29"/>
          <p:cNvGrpSpPr/>
          <p:nvPr/>
        </p:nvGrpSpPr>
        <p:grpSpPr>
          <a:xfrm>
            <a:off x="4039560" y="2733840"/>
            <a:ext cx="785880" cy="1111320"/>
            <a:chOff x="4039560" y="2733840"/>
            <a:chExt cx="785880" cy="1111320"/>
          </a:xfrm>
        </p:grpSpPr>
        <p:sp>
          <p:nvSpPr>
            <p:cNvPr id="274" name="Freeform 30"/>
            <p:cNvSpPr/>
            <p:nvPr/>
          </p:nvSpPr>
          <p:spPr>
            <a:xfrm rot="17825400">
              <a:off x="3892680" y="3124080"/>
              <a:ext cx="1079280" cy="33048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480"/>
                <a:gd name="textAreaBottom" fmla="*/ 330480 h 33048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 rot="17825400">
              <a:off x="4055400" y="3102480"/>
              <a:ext cx="851400" cy="25092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 rot="17825400">
              <a:off x="4090320" y="353664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7" name="Group 33"/>
          <p:cNvGrpSpPr/>
          <p:nvPr/>
        </p:nvGrpSpPr>
        <p:grpSpPr>
          <a:xfrm>
            <a:off x="6740640" y="853560"/>
            <a:ext cx="894960" cy="1105560"/>
            <a:chOff x="6740640" y="853560"/>
            <a:chExt cx="894960" cy="1105560"/>
          </a:xfrm>
        </p:grpSpPr>
        <p:sp>
          <p:nvSpPr>
            <p:cNvPr id="278" name="Freeform 34"/>
            <p:cNvSpPr/>
            <p:nvPr/>
          </p:nvSpPr>
          <p:spPr>
            <a:xfrm rot="19806000">
              <a:off x="6855120" y="917640"/>
              <a:ext cx="181440" cy="50796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 rot="19806000">
              <a:off x="7110000" y="1306800"/>
              <a:ext cx="190080" cy="647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 rot="19806000">
              <a:off x="6976440" y="891000"/>
              <a:ext cx="259200" cy="4064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 rot="19806000">
              <a:off x="7249320" y="1201320"/>
              <a:ext cx="233640" cy="673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2" name="Group 38"/>
          <p:cNvGrpSpPr/>
          <p:nvPr/>
        </p:nvGrpSpPr>
        <p:grpSpPr>
          <a:xfrm>
            <a:off x="6545520" y="1469520"/>
            <a:ext cx="663840" cy="993600"/>
            <a:chOff x="6545520" y="1469520"/>
            <a:chExt cx="663840" cy="993600"/>
          </a:xfrm>
        </p:grpSpPr>
        <p:sp>
          <p:nvSpPr>
            <p:cNvPr id="283" name="Freeform 39"/>
            <p:cNvSpPr/>
            <p:nvPr/>
          </p:nvSpPr>
          <p:spPr>
            <a:xfrm rot="20497800">
              <a:off x="6611400" y="1497600"/>
              <a:ext cx="173520" cy="447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 rot="20497800">
              <a:off x="6750360" y="1878120"/>
              <a:ext cx="181800" cy="5709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 rot="20497800">
              <a:off x="6738840" y="1499400"/>
              <a:ext cx="248040" cy="35820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 rot="20497800">
              <a:off x="6898320" y="1811160"/>
              <a:ext cx="223200" cy="5936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7" name="Group 43"/>
          <p:cNvGrpSpPr/>
          <p:nvPr/>
        </p:nvGrpSpPr>
        <p:grpSpPr>
          <a:xfrm>
            <a:off x="6487200" y="2304000"/>
            <a:ext cx="424080" cy="678600"/>
            <a:chOff x="6487200" y="2304000"/>
            <a:chExt cx="424080" cy="678600"/>
          </a:xfrm>
        </p:grpSpPr>
        <p:sp>
          <p:nvSpPr>
            <p:cNvPr id="288" name="Freeform 44"/>
            <p:cNvSpPr/>
            <p:nvPr/>
          </p:nvSpPr>
          <p:spPr>
            <a:xfrm rot="20497800">
              <a:off x="6533640" y="2313720"/>
              <a:ext cx="102240" cy="311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 rot="20497800">
              <a:off x="6631200" y="2578680"/>
              <a:ext cx="106920" cy="397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 rot="20497800">
              <a:off x="6608880" y="2320560"/>
              <a:ext cx="145800" cy="2491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 rot="20497800">
              <a:off x="6717960" y="2537640"/>
              <a:ext cx="131400" cy="412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2" name="Group 48"/>
          <p:cNvGrpSpPr/>
          <p:nvPr/>
        </p:nvGrpSpPr>
        <p:grpSpPr>
          <a:xfrm>
            <a:off x="5676840" y="723960"/>
            <a:ext cx="533520" cy="457200"/>
            <a:chOff x="5676840" y="723960"/>
            <a:chExt cx="533520" cy="457200"/>
          </a:xfrm>
        </p:grpSpPr>
        <p:sp>
          <p:nvSpPr>
            <p:cNvPr id="293" name="Freeform 49"/>
            <p:cNvSpPr/>
            <p:nvPr/>
          </p:nvSpPr>
          <p:spPr>
            <a:xfrm rot="5400000">
              <a:off x="5817600" y="583200"/>
              <a:ext cx="228600" cy="509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 rot="5400000">
              <a:off x="5784840" y="755640"/>
              <a:ext cx="317160" cy="5335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5" name="Group 51"/>
          <p:cNvGrpSpPr/>
          <p:nvPr/>
        </p:nvGrpSpPr>
        <p:grpSpPr>
          <a:xfrm>
            <a:off x="7149960" y="2286000"/>
            <a:ext cx="469800" cy="546120"/>
            <a:chOff x="7149960" y="2286000"/>
            <a:chExt cx="469800" cy="546120"/>
          </a:xfrm>
        </p:grpSpPr>
        <p:sp>
          <p:nvSpPr>
            <p:cNvPr id="296" name="Freeform 52"/>
            <p:cNvSpPr/>
            <p:nvPr/>
          </p:nvSpPr>
          <p:spPr>
            <a:xfrm>
              <a:off x="7149960" y="2315880"/>
              <a:ext cx="238680" cy="486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56" h="520">
                  <a:moveTo>
                    <a:pt x="8" y="408"/>
                  </a:moveTo>
                  <a:cubicBezTo>
                    <a:pt x="0" y="352"/>
                    <a:pt x="32" y="232"/>
                    <a:pt x="56" y="168"/>
                  </a:cubicBezTo>
                  <a:cubicBezTo>
                    <a:pt x="80" y="104"/>
                    <a:pt x="120" y="48"/>
                    <a:pt x="152" y="24"/>
                  </a:cubicBezTo>
                  <a:cubicBezTo>
                    <a:pt x="184" y="0"/>
                    <a:pt x="240" y="0"/>
                    <a:pt x="248" y="24"/>
                  </a:cubicBezTo>
                  <a:cubicBezTo>
                    <a:pt x="256" y="48"/>
                    <a:pt x="208" y="120"/>
                    <a:pt x="200" y="168"/>
                  </a:cubicBezTo>
                  <a:cubicBezTo>
                    <a:pt x="192" y="216"/>
                    <a:pt x="216" y="256"/>
                    <a:pt x="200" y="312"/>
                  </a:cubicBezTo>
                  <a:cubicBezTo>
                    <a:pt x="184" y="368"/>
                    <a:pt x="136" y="488"/>
                    <a:pt x="104" y="504"/>
                  </a:cubicBezTo>
                  <a:cubicBezTo>
                    <a:pt x="72" y="520"/>
                    <a:pt x="16" y="464"/>
                    <a:pt x="8" y="40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Freeform 53"/>
            <p:cNvSpPr/>
            <p:nvPr/>
          </p:nvSpPr>
          <p:spPr>
            <a:xfrm>
              <a:off x="7328880" y="2286000"/>
              <a:ext cx="290880" cy="5461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12" h="584">
                  <a:moveTo>
                    <a:pt x="8" y="8"/>
                  </a:moveTo>
                  <a:cubicBezTo>
                    <a:pt x="0" y="16"/>
                    <a:pt x="40" y="64"/>
                    <a:pt x="56" y="104"/>
                  </a:cubicBezTo>
                  <a:cubicBezTo>
                    <a:pt x="72" y="144"/>
                    <a:pt x="88" y="184"/>
                    <a:pt x="104" y="248"/>
                  </a:cubicBezTo>
                  <a:cubicBezTo>
                    <a:pt x="120" y="312"/>
                    <a:pt x="120" y="440"/>
                    <a:pt x="152" y="488"/>
                  </a:cubicBezTo>
                  <a:cubicBezTo>
                    <a:pt x="184" y="536"/>
                    <a:pt x="280" y="584"/>
                    <a:pt x="296" y="536"/>
                  </a:cubicBezTo>
                  <a:cubicBezTo>
                    <a:pt x="312" y="488"/>
                    <a:pt x="280" y="280"/>
                    <a:pt x="248" y="200"/>
                  </a:cubicBezTo>
                  <a:cubicBezTo>
                    <a:pt x="216" y="120"/>
                    <a:pt x="144" y="80"/>
                    <a:pt x="104" y="56"/>
                  </a:cubicBezTo>
                  <a:cubicBezTo>
                    <a:pt x="64" y="32"/>
                    <a:pt x="16" y="0"/>
                    <a:pt x="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8" name="Text Box 54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JEDRO  (99.999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Text Box 55"/>
          <p:cNvSpPr/>
          <p:nvPr/>
        </p:nvSpPr>
        <p:spPr>
          <a:xfrm>
            <a:off x="5410080" y="3124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А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56"/>
          <p:cNvSpPr/>
          <p:nvPr/>
        </p:nvSpPr>
        <p:spPr>
          <a:xfrm>
            <a:off x="5257800" y="3519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2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З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, Y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 Box 57"/>
          <p:cNvSpPr/>
          <p:nvPr/>
        </p:nvSpPr>
        <p:spPr>
          <a:xfrm>
            <a:off x="502920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00 000 00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3000 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276720" y="5029200"/>
            <a:ext cx="335268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ffeedd"/>
                </a:solidFill>
                <a:latin typeface="Arial"/>
              </a:rPr>
              <a:t>ИТОХОНДРИЈЕ</a:t>
            </a: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 ( 0.000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AutoShape 59"/>
          <p:cNvSpPr/>
          <p:nvPr/>
        </p:nvSpPr>
        <p:spPr>
          <a:xfrm>
            <a:off x="1447920" y="4419720"/>
            <a:ext cx="304560" cy="1218960"/>
          </a:xfrm>
          <a:custGeom>
            <a:avLst/>
            <a:gdLst>
              <a:gd name="textAreaLeft" fmla="*/ 40680 w 304560"/>
              <a:gd name="textAreaRight" fmla="*/ 263880 w 30456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AutoShape 60"/>
          <p:cNvSpPr/>
          <p:nvPr/>
        </p:nvSpPr>
        <p:spPr>
          <a:xfrm>
            <a:off x="3200400" y="2438280"/>
            <a:ext cx="2819520" cy="457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Oval 61"/>
          <p:cNvSpPr/>
          <p:nvPr/>
        </p:nvSpPr>
        <p:spPr>
          <a:xfrm>
            <a:off x="23623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Oval 62"/>
          <p:cNvSpPr/>
          <p:nvPr/>
        </p:nvSpPr>
        <p:spPr>
          <a:xfrm>
            <a:off x="2666880" y="579132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Oval 63"/>
          <p:cNvSpPr/>
          <p:nvPr/>
        </p:nvSpPr>
        <p:spPr>
          <a:xfrm>
            <a:off x="2209680" y="58672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Oval 64"/>
          <p:cNvSpPr/>
          <p:nvPr/>
        </p:nvSpPr>
        <p:spPr>
          <a:xfrm>
            <a:off x="2971800" y="571500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Oval 65"/>
          <p:cNvSpPr/>
          <p:nvPr/>
        </p:nvSpPr>
        <p:spPr>
          <a:xfrm>
            <a:off x="28195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35053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3962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69 b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352680" y="6172200"/>
            <a:ext cx="366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ЛЕКУЛА ДНК/ МИТОХОНДР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 800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ПИЈА/ЋЕЛ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70"/>
          <p:cNvSpPr/>
          <p:nvPr/>
        </p:nvSpPr>
        <p:spPr>
          <a:xfrm>
            <a:off x="304920" y="457200"/>
            <a:ext cx="3962160" cy="7621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WordArt 71"/>
          <p:cNvSpPr txBox="1"/>
          <p:nvPr/>
        </p:nvSpPr>
        <p:spPr>
          <a:xfrm>
            <a:off x="762120" y="533520"/>
            <a:ext cx="2762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МАНИ ГЕНОМ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Величина гена и разноврсност структуре г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 је у просеку велики 600-180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Величина једног нуклеотида је 0,34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о је ген у просеку велики 1000 np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то ј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могућих комбинација које остварују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Број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има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20.000 - 25.000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г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мада би укупна дужина ДНК (код човека износи 3 000 000 000 np) указивала, простим математичким прерачунавањем, на далеко већи број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20-25.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а зато шт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делови ДНК актив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гени исте величин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4617b"/>
                </a:solidFill>
                <a:latin typeface="Arial"/>
              </a:rPr>
              <a:t>Преглед броја ге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752480" y="1828440"/>
            <a:ext cx="556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Mycoplasma genitalium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7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E. coli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2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S. cerevisiae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03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Arabidopsis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(biljka)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4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D. melanogaster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13.6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Z. mays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Homo sapiens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oko 20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алели -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полиморфиз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зличити облици једног истог гена су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ск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лели гена настају услед мут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никада нису мутирали су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моно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су мутирали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су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поли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код чове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8% гена поли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72% гена моно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,7% гена се налази у хетерозиготном стањ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Полиморфност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52480"/>
            <a:ext cx="83059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два алелна облика (пр. А, а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дан од њ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функционал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др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нефункционал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више алелних облика (пр. ген за ABO систем има три алела А, B, О) сваки од њих доводи до синтезе истог протеина, али постоји разлика у једној или малом броју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а у протеину, што утиче на функционалност проте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Полиморфност гена је и један од разлога различитог терапијског ефекта одређеног лека код различитих особ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ген има више алелних облика се назива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мултипни але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4617b"/>
                </a:solidFill>
                <a:latin typeface="Arial"/>
              </a:rPr>
              <a:t>Хомозиготни и хетерозиготни але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доминант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рецесив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хетер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Генотип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је скуп гена у орган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из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скуп гена у ћелиј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комбинација генских алела која детерминише неку особину (А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ом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гена у  хаплоидној хромозомској гарниту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енотип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особина организма које настају услед интеракције генотипа и фактора среди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Псеудогени и фамилије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Секвенце сличне геним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псеудогени</a:t>
            </a:r>
            <a:r>
              <a:rPr b="1" i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(20.000 псеудогена у једарном геном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сличне нуклеотидне секвенц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ји се налазе на разл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амилије  гена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фамилија гена з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g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 на хромозомима 2, 14, 22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који се налазе на истом хромозому и детерминишу исто својство представљају </a:t>
            </a:r>
            <a:r>
              <a:rPr b="1" lang="sr-Latn-CS" sz="2600" spc="-1" strike="noStrike">
                <a:solidFill>
                  <a:srgbClr val="ff0000"/>
                </a:solidFill>
                <a:latin typeface="Constantia"/>
              </a:rPr>
              <a:t>хаплотип</a:t>
            </a:r>
            <a:r>
              <a:rPr b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(гени за ХЛА систем на хромозому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итохондријални геном - 25. хромозом, материнск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итохондријалн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и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ен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једарни ген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НК је дуга  16.569 n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хромозом циркуларног облика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К није у контексту са хистонима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онтексту са хистони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Репаративни механизми су спорији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ефикасна репар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ма интрона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исконтинуирана гр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ђ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Гени се јављају у већем броју копија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јед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п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хвата 37 гена од којих 24 кодирају РНК          ко 20. 000 г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22 тРНК и 2 рРНК), осталих 13 кодирај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протеи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Н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јединствен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г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енетички 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чит од једарног код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и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ги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су стоп кодон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оп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итохондрија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и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риптоф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ком еволуције долазило је до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екомб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и ДНК хромозома, па се тако ген за субјединицу 9 ATP-азе налази на ДНК хромозома код човека, а код квасца на мтДН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у ф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пска својст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еринско насле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ђ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ива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уромускуларне болести су често последица мутације мтДНК и преносе се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рокли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</a:t>
            </a:r>
            <a:r>
              <a:rPr b="1" lang="sr-Latn-RS" sz="22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10-31T18:25:45Z</dcterms:modified>
  <cp:revision>102</cp:revision>
  <dc:subject/>
  <dc:title>2-Humani genom</dc:title>
</cp:coreProperties>
</file>